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3.png" ContentType="image/png"/>
  <Override PartName="/ppt/media/camera.wav" ContentType="audio/x-wav"/>
  <Override PartName="/ppt/media/bomb.wav" ContentType="audio/x-wav"/>
  <Override PartName="/ppt/media/image4.jpeg" ContentType="image/jpeg"/>
  <Override PartName="/ppt/media/type.wav" ContentType="audio/x-wav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9CBD-DC7C-4227-804D-CA335AFFB05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5FF1-75A1-4CF1-92AB-BDEAA9785B7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7D03-E347-4091-8754-1FE4908F0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B36D-EBCB-4F2E-B9B7-D15825C3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F620-B504-4D62-9DB2-4BF327E71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B708-2B57-4AA1-8202-D04B43741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2D14-5A40-436F-9DB3-8A85BF20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311D-02D6-4ACC-8BE8-A6A169F4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AD1B-2CEB-4DA5-B39C-F8FA7C74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1651-B2B1-4024-8E84-F1ADE6F4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442D-1688-47A1-A3D7-49D72FD4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46F7-D36A-414E-96A9-4D68474E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537C-F92B-4B0A-8F0D-C4205835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F9E0-B6BC-4B3F-AFFD-5E7D270D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9653-9A3B-427E-B0AD-DEB58B48733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35a0cd8da8282da5208b6fa60d3a1ffe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6600" spc="-1" strike="noStrike">
                <a:solidFill>
                  <a:srgbClr val="ffffff"/>
                </a:solidFill>
                <a:latin typeface="Arial"/>
                <a:cs typeface="Mudir MT"/>
              </a:rPr>
              <a:t>التصور الاسلامي عن الرسل عليهم السلا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horz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" dur="1" fill="hold"/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- ووقفوا جميعا في وجه الظلم والفساد </a:t>
            </a:r>
            <a:br>
              <a:rPr sz="4400"/>
            </a:b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مثل على ذل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504800"/>
          <a:ext cx="8229600" cy="2500560"/>
        </p:xfrm>
        <a:graphic>
          <a:graphicData uri="http://schemas.openxmlformats.org/drawingml/2006/table">
            <a:tbl>
              <a:tblPr/>
              <a:tblGrid>
                <a:gridCol w="4319640"/>
                <a:gridCol w="1390680"/>
                <a:gridCol w="2519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وجه م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وع الظل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سم النب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قومه الذين كانوا يمارسون الفاحش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أخلاق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لوط عليه السلا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قومه الذين كانوا يطففون الموازين والمكاييل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قتصاد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عيب عليه السلا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في وجه فرعون وجبروت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ياس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وسى عليه السلا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</a:rPr>
              <a:t>وضح الفرق بين العقيد والشريع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981000"/>
          <a:ext cx="9144000" cy="35654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شريع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عقيد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أوامر ونواه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خب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فر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لأن ما يصلح أو لمكان  أو قوم  زمان لا يصلح لغير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الأخبار الصادقة عن الشيء الواحد لا يصح أن تختلف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عليل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00000"/>
                </a:solidFill>
                <a:latin typeface="Arial"/>
              </a:rPr>
              <a:t>وضح الفهم الصحيح لهاتين الآيتين </a:t>
            </a:r>
            <a:br>
              <a:rPr sz="4000"/>
            </a:br>
            <a:r>
              <a:rPr b="0" lang="ar-SA" sz="4000" spc="-1" strike="noStrike">
                <a:solidFill>
                  <a:srgbClr val="0070c0"/>
                </a:solidFill>
                <a:latin typeface="Arial"/>
              </a:rPr>
              <a:t>كيف توفق بين هاتين الآيتين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0" y="1484280"/>
          <a:ext cx="9036000" cy="2712960"/>
        </p:xfrm>
        <a:graphic>
          <a:graphicData uri="http://schemas.openxmlformats.org/drawingml/2006/table">
            <a:tbl>
              <a:tblPr/>
              <a:tblGrid>
                <a:gridCol w="4518000"/>
                <a:gridCol w="45180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فهم الصحيح له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آي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المقصود بالتفرق : هو الإيمان ببعضهم والكفر بآخري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«لا نفرق بين أحد من رسله»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الله ميز بعض الأنبياء بميزات ليست لغيره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«تلك الرسل فضلنا بعضهم على بعض»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93300"/>
                </a:solidFill>
                <a:latin typeface="Arial"/>
              </a:rPr>
              <a:t>اذكر ما تميز به كل من الأنبياء التالية أسماؤه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0" y="836640"/>
          <a:ext cx="9144000" cy="7624800"/>
        </p:xfrm>
        <a:graphic>
          <a:graphicData uri="http://schemas.openxmlformats.org/drawingml/2006/table">
            <a:tbl>
              <a:tblPr/>
              <a:tblGrid>
                <a:gridCol w="6751800"/>
                <a:gridCol w="2392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يزات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نب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أبو الأنبيا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اتخذه الله خليلا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إبراهيم عليه السلا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كليم الل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وسى عليه السلا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كلمة الله ألقاها إلى مريم البتول ، فحملت به من غير أن يمسها رجل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عيس عليه السلا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ميز الرسول محمد (</a:t>
                      </a:r>
                      <a:r>
                        <a:rPr b="0" lang="ar-SA" sz="2800" spc="-1" strike="noStrike">
                          <a:solidFill>
                            <a:srgbClr val="c00000"/>
                          </a:solidFill>
                          <a:latin typeface="AGA Arabesque"/>
                          <a:ea typeface="AGA Arabesque"/>
                        </a:rPr>
                        <a:t>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: بأمور منها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ن الانبياء السابقين بشروا به ودعوا الناس الى اتباع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نه خاتم الانبياء والمرسلين فلا نبي بعده قال تعالى : </a:t>
                      </a:r>
                      <a:r>
                        <a:rPr b="0" lang="ar-SA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«ولكن رسول الله وخاتم النبيين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نه بعث الى الناس كافة بخلاف الانبياء الذين كان كل منهم يبعث الى قومه خاص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ن الله سبحانه ايده بمعجزة خالدة هي القران الكريم بينما كانت معجزات الرسل السابقين خاصة بأزمانهم وأقوامه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حمد 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GA Arabesque"/>
                          <a:ea typeface="AGA Arabesque"/>
                        </a:rPr>
                        <a:t>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1" descr="87ab6bf321c4ac4e5dc97b065f3e0d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3"/>
          <p:cNvSpPr/>
          <p:nvPr/>
        </p:nvSpPr>
        <p:spPr>
          <a:xfrm>
            <a:off x="539640" y="549360"/>
            <a:ext cx="82821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  <a:cs typeface="Mudir MT"/>
              </a:rPr>
              <a:t>الاهداف:</a:t>
            </a:r>
            <a:br>
              <a:rPr sz="4400"/>
            </a:br>
            <a:r>
              <a:rPr b="0" lang="ar-SA" sz="4400" spc="-1" strike="noStrike">
                <a:solidFill>
                  <a:srgbClr val="ff0000"/>
                </a:solidFill>
                <a:latin typeface="Arial"/>
                <a:cs typeface="Mudir MT"/>
              </a:rPr>
              <a:t>سنتناول في هذا الدرس التصور الاسلامي عن الرسل من حيث :</a:t>
            </a:r>
            <a:br>
              <a:rPr sz="4400"/>
            </a:br>
            <a:r>
              <a:rPr b="0" lang="ar-SA" sz="4400" spc="-1" strike="noStrike">
                <a:solidFill>
                  <a:srgbClr val="ff0000"/>
                </a:solidFill>
                <a:latin typeface="Arial"/>
                <a:ea typeface="Mudir MT"/>
              </a:rPr>
              <a:t>1</a:t>
            </a:r>
            <a:r>
              <a:rPr b="0" lang="ar-SA" sz="4400" spc="-1" strike="noStrike">
                <a:solidFill>
                  <a:srgbClr val="ff0000"/>
                </a:solidFill>
                <a:latin typeface="Arial"/>
                <a:ea typeface="Mudir MT"/>
              </a:rPr>
              <a:t>-الحكمة من ارسالهم</a:t>
            </a:r>
            <a:br>
              <a:rPr sz="4400"/>
            </a:br>
            <a:r>
              <a:rPr b="0" lang="ar-SA" sz="4400" spc="-1" strike="noStrike">
                <a:solidFill>
                  <a:srgbClr val="ff0000"/>
                </a:solidFill>
                <a:latin typeface="Arial"/>
                <a:ea typeface="Mudir MT"/>
              </a:rPr>
              <a:t>2</a:t>
            </a:r>
            <a:r>
              <a:rPr b="0" lang="ar-SA" sz="4400" spc="-1" strike="noStrike">
                <a:solidFill>
                  <a:srgbClr val="ff0000"/>
                </a:solidFill>
                <a:latin typeface="Arial"/>
                <a:ea typeface="Mudir MT"/>
              </a:rPr>
              <a:t>-الرسل بشر مصطفون</a:t>
            </a:r>
            <a:br>
              <a:rPr sz="4400"/>
            </a:br>
            <a:r>
              <a:rPr b="0" lang="ar-SA" sz="4400" spc="-1" strike="noStrike">
                <a:solidFill>
                  <a:srgbClr val="ff0000"/>
                </a:solidFill>
                <a:latin typeface="Arial"/>
                <a:ea typeface="Mudir MT"/>
              </a:rPr>
              <a:t>3</a:t>
            </a:r>
            <a:r>
              <a:rPr b="0" lang="ar-SA" sz="4400" spc="-1" strike="noStrike">
                <a:solidFill>
                  <a:srgbClr val="ff0000"/>
                </a:solidFill>
                <a:latin typeface="Arial"/>
                <a:ea typeface="Mudir MT"/>
              </a:rPr>
              <a:t>-وحدة اصل الرسالات</a:t>
            </a:r>
            <a:br>
              <a:rPr sz="4400"/>
            </a:br>
            <a:r>
              <a:rPr b="0" lang="ar-SA" sz="4400" spc="-1" strike="noStrike">
                <a:solidFill>
                  <a:srgbClr val="ff0000"/>
                </a:solidFill>
                <a:latin typeface="Arial"/>
                <a:ea typeface="Mudir MT"/>
              </a:rPr>
              <a:t>4</a:t>
            </a:r>
            <a:r>
              <a:rPr b="0" lang="ar-SA" sz="4400" spc="-1" strike="noStrike">
                <a:solidFill>
                  <a:srgbClr val="ff0000"/>
                </a:solidFill>
                <a:latin typeface="Arial"/>
                <a:ea typeface="Mudir MT"/>
              </a:rPr>
              <a:t>-المفاضلة بين الرس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mb dir="vert"/>
    <p:sndAc>
      <p:stSnd>
        <p:snd r:embed="rId2" name="camera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Motion origin="layout" path="M 0 0 L 0 -0.07213 E">
                                      <p:cBhvr>
                                        <p:cTn id="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2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7" descr="23394msha3ry"/>
          <p:cNvPicPr/>
          <p:nvPr/>
        </p:nvPicPr>
        <p:blipFill>
          <a:blip r:embed="rId1"/>
          <a:stretch/>
        </p:blipFill>
        <p:spPr>
          <a:xfrm>
            <a:off x="0" y="65160"/>
            <a:ext cx="9144000" cy="6792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caef117597"/>
          <p:cNvPicPr/>
          <p:nvPr/>
        </p:nvPicPr>
        <p:blipFill>
          <a:blip r:embed="rId2"/>
          <a:stretch/>
        </p:blipFill>
        <p:spPr>
          <a:xfrm>
            <a:off x="7812000" y="1916280"/>
            <a:ext cx="389160" cy="312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" descr="caef117597"/>
          <p:cNvPicPr/>
          <p:nvPr/>
        </p:nvPicPr>
        <p:blipFill>
          <a:blip r:embed="rId3"/>
          <a:stretch/>
        </p:blipFill>
        <p:spPr>
          <a:xfrm>
            <a:off x="7812000" y="3573360"/>
            <a:ext cx="389160" cy="312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0" descr="caef117597"/>
          <p:cNvPicPr/>
          <p:nvPr/>
        </p:nvPicPr>
        <p:blipFill>
          <a:blip r:embed="rId4"/>
          <a:stretch/>
        </p:blipFill>
        <p:spPr>
          <a:xfrm>
            <a:off x="7812000" y="4149720"/>
            <a:ext cx="389160" cy="312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1" descr="caef117597"/>
          <p:cNvPicPr/>
          <p:nvPr/>
        </p:nvPicPr>
        <p:blipFill>
          <a:blip r:embed="rId5"/>
          <a:stretch/>
        </p:blipFill>
        <p:spPr>
          <a:xfrm>
            <a:off x="7812000" y="5157720"/>
            <a:ext cx="389160" cy="312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2" descr="caef117597"/>
          <p:cNvPicPr/>
          <p:nvPr/>
        </p:nvPicPr>
        <p:blipFill>
          <a:blip r:embed="rId6"/>
          <a:stretch/>
        </p:blipFill>
        <p:spPr>
          <a:xfrm>
            <a:off x="7812000" y="5805360"/>
            <a:ext cx="389160" cy="3128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6"/>
          <p:cNvSpPr/>
          <p:nvPr/>
        </p:nvSpPr>
        <p:spPr>
          <a:xfrm>
            <a:off x="971640" y="18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ordiaUPC"/>
                <a:cs typeface="Mudir MT"/>
              </a:rPr>
              <a:t>من حكم ارسال الرس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7"/>
          <p:cNvSpPr/>
          <p:nvPr/>
        </p:nvSpPr>
        <p:spPr>
          <a:xfrm>
            <a:off x="755640" y="1844640"/>
            <a:ext cx="704844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Mudir MT"/>
              </a:rPr>
              <a:t>قطع الحجة على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ndalus"/>
              </a:rPr>
              <a:t>الناس،قال تعالى:رسلا مبشرين ومنذرين لئلا يكون للناس على الله حجة بعد الرسل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Mudir MT"/>
              </a:rPr>
              <a:t>بيان حقائق العقيدة الصحيحة للن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Mudir MT"/>
              </a:rPr>
              <a:t>ارشاد الناس الى شريعة الله تعالى التي فيها سعادتهم وهناؤهم في دنياهم واختر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Mudir MT"/>
              </a:rPr>
              <a:t>القدوة الحسنة للناس في كل خ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Mudir MT"/>
              </a:rPr>
              <a:t>بيان كيفية عباده الله سبحان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hecker dir="horz"/>
    <p:sndAc>
      <p:stSnd>
        <p:snd r:embed="rId7" name="type.wav"/>
      </p:stSnd>
    </p:sndAc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3735_2_12699339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8"/>
          <p:cNvSpPr/>
          <p:nvPr/>
        </p:nvSpPr>
        <p:spPr>
          <a:xfrm>
            <a:off x="539640" y="1413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Mudir MT"/>
              </a:rPr>
              <a:t>الرسل بشر مصطفو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684360" y="2681280"/>
            <a:ext cx="7848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Mudir MT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Mudir MT"/>
              </a:rPr>
              <a:t>- شاء الله سبحانه ان يكون رسله الى الناس بشرا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cs typeface="Mudir MT"/>
              </a:rPr>
              <a:t>علل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Mudir MT"/>
              </a:rPr>
              <a:t>وذلك حتى يسهل على الناس التعلم منهم والاقتداء بهم فلو كان الانبياء ملائكة ما امكن الناس ان يتعاملوا ويسمعوا منهم وما كانوا قدوة للناس لاختلاف طبيعتهم عن طبيعة البش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Andalus"/>
              </a:rPr>
              <a:t>قال تعالى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Andalus"/>
              </a:rPr>
              <a:t>:( ان اتبع الا ما يوحى الى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dissolve/>
    <p:sndAc>
      <p:stSnd>
        <p:snd r:embed="rId2" name="chimes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57" nodeType="afterEffect" fill="hold" presetClass="path" presetID="2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8 0 0.069 0.04129 0.069 0.09189 C 0.069 0.12519 0.056 0.15449 0.037 0.1718 L 0.036 0.1718 C 0.029 0.17846 0.025 0.18911 0.025 0.2011 C 0.025 0.21175 0.029 0.22108 0.034 0.22774 C 0.042 0.23839 0.047 0.25437 0.047 0.27035 C 0.047 0.30498 0.026 0.33295 0 0.33295 C -0.026 0.33295 -0.047 0.30498 -0.047 0.27035 C -0.047 0.25437 -0.042 0.23839 -0.034 0.22774 C -0.029 0.22108 -0.026 0.21175 -0.026 0.2011 C -0.026 0.18911 -0.03 0.17846 -0.036 0.1718 L -0.037 0.1718 C -0.057 0.15449 -0.07 0.12519 -0.07 0.09189 C -0.07 0.04129 -0.039 0 0 0 Z">
                                      <p:cBhvr>
                                        <p:cTn id="58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60" nodeType="afterEffect" fill="hold" presetClass="path" presetID="2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8 0 0.069 0.04129 0.069 0.09189 C 0.069 0.12519 0.056 0.15449 0.037 0.1718 L 0.036 0.1718 C 0.029 0.17846 0.025 0.18911 0.025 0.2011 C 0.025 0.21175 0.029 0.22108 0.034 0.22774 C 0.042 0.23839 0.047 0.25437 0.047 0.27035 C 0.047 0.30498 0.026 0.33295 0 0.33295 C -0.026 0.33295 -0.047 0.30498 -0.047 0.27035 C -0.047 0.25437 -0.042 0.23839 -0.034 0.22774 C -0.029 0.22108 -0.026 0.21175 -0.026 0.2011 C -0.026 0.18911 -0.03 0.17846 -0.036 0.1718 L -0.037 0.1718 C -0.057 0.15449 -0.07 0.12519 -0.07 0.09189 C -0.07 0.04129 -0.039 0 0 0 Z">
                                      <p:cBhvr>
                                        <p:cTn id="61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0"/>
            <a:ext cx="9036000" cy="685800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txBody>
          <a:bodyPr anchor="t">
            <a:normAutofit fontScale="93000"/>
          </a:bodyPr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- ومع أن الرسل بشر ، إلا أنهم يتميزون بأن الله سبحانه اصطفاهم ليكونوا رسله ، يبلغون دينه وشريعته ، فالنبوة محض اصطفاء واختيار من الله سبحانه لا يوصل اليها بالتأمل أو التعبد 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- فالرسل أصدق الناس وأكملهم خلفاً وأوفرهم عقلاً وذكاء، وهم أمناء في التبليغ، قال تعالى: «إن أتبع إلا ما يوحى إليّ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-181080" y="0"/>
            <a:ext cx="9144000" cy="6858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بم  </a:t>
            </a: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يتميز التصور الإسلامي للرسل عن التصورات الأخر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التي : س</a:t>
            </a: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 أ- ترفع بعض الأنبياء إلى مقام الألوهية وتضفي عليهم التقديس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ب- كما يتميز عن التصورات التي تنسب إليهم المعاصي والفواحش. ، كالونا والسكر والاحتيال 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39ade3c4f55cd1f201273d874226ab0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8"/>
          <p:cNvSpPr/>
          <p:nvPr/>
        </p:nvSpPr>
        <p:spPr>
          <a:xfrm>
            <a:off x="1116000" y="1197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324000" y="1224000"/>
            <a:ext cx="835344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9900"/>
                </a:solidFill>
                <a:latin typeface="Arial"/>
                <a:cs typeface="Mudir MT"/>
              </a:rPr>
              <a:t>ارسل الله تعالى انبياء ورسلاً كثيرين يعلمون الناس ويهدونهم وقد بعثوا جميع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  <a:cs typeface="Mudir MT"/>
              </a:rPr>
              <a:t>بم تشترك جميع الرسالات السماوية؟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9900"/>
                </a:solidFill>
                <a:latin typeface="Arial"/>
                <a:ea typeface="Mudir MT"/>
              </a:rPr>
              <a:t>1</a:t>
            </a:r>
            <a:r>
              <a:rPr b="1" lang="ar-SA" sz="3600" spc="-1" strike="noStrike">
                <a:solidFill>
                  <a:srgbClr val="669900"/>
                </a:solidFill>
                <a:latin typeface="Arial"/>
                <a:ea typeface="Mudir MT"/>
              </a:rPr>
              <a:t>- بعقيدة واحدة هي عقيدة التوحيد التي تعرف الناس بربهم وتدعوهم لعبادته وحده سبحانه </a:t>
            </a:r>
            <a:r>
              <a:rPr b="1" lang="ar-SA" sz="3600" spc="-1" strike="noStrike">
                <a:solidFill>
                  <a:srgbClr val="669900"/>
                </a:solidFill>
                <a:latin typeface="Arial"/>
                <a:cs typeface="Andalus"/>
              </a:rPr>
              <a:t>قال تعالى :( ولقد بعثنا في كل امة رسولا ان اعبدوا الله واجتنبوا الطاغوت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newsflash/>
    <p:sndAc>
      <p:stSnd>
        <p:snd r:embed="rId2" name="bomb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mph" presetID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21600000">
                                      <p:cBhvr>
                                        <p:cTn id="6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وحدة اصل الرسال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رسل الله تعالى انبياء ورسلاً كثيرين يعلمون الناس ويهدونهم وقد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بعثوا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جميع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بم تشترك جميع الرسالات السماوية؟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- بعقيدة واحدة هي عقيدة التوحيد التي تعرف الناس بربهم وتدعوهم لعبادته وحده سبحانه قال تعالى :( و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لقد بعثنا في كل امة رسولا ان اعبدوا الله واجتنبوا الطاغوت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- كما أن الأنبياء جميعاً دعوا إلى تهذيب النف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- ونهوا عن الفحشاء والمنكر والبغ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0" y="0"/>
            <a:ext cx="9036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ومع أن أصل الرسالات واحد إلا أن تفاصيل الشريعة تختلف من رسول لآخر 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مثل على اختلاف الأنبياء في تفاصبيل شرائعهم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ar-SA" sz="4800" spc="-1" strike="noStrike">
                <a:solidFill>
                  <a:srgbClr val="0070c0"/>
                </a:solidFill>
                <a:latin typeface="Arial"/>
              </a:rPr>
              <a:t>- كالاختلاف في تفاصيل العبادات وأوقاتها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70c0"/>
                </a:solidFill>
                <a:latin typeface="Arial"/>
              </a:rPr>
              <a:t>2</a:t>
            </a:r>
            <a:r>
              <a:rPr b="0" lang="ar-SA" sz="4800" spc="-1" strike="noStrike">
                <a:solidFill>
                  <a:srgbClr val="0070c0"/>
                </a:solidFill>
                <a:latin typeface="Arial"/>
              </a:rPr>
              <a:t>- والاختلاف في المحرمات من الأطعمة </a:t>
            </a: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، قال تعالى: </a:t>
            </a:r>
            <a:r>
              <a:rPr b="0" lang="ar-SA" sz="4800" spc="-1" strike="noStrike">
                <a:solidFill>
                  <a:srgbClr val="669900"/>
                </a:solidFill>
                <a:latin typeface="Arial"/>
              </a:rPr>
              <a:t>« لكل جعلنا منكم شرعة ومنهاجاً «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8:13:13Z</dcterms:created>
  <dc:creator>منيب</dc:creator>
  <dc:description/>
  <dc:language>en-US</dc:language>
  <cp:lastModifiedBy>عبد الله زيد</cp:lastModifiedBy>
  <dcterms:modified xsi:type="dcterms:W3CDTF">2014-10-19T20:28:33Z</dcterms:modified>
  <cp:revision>31</cp:revision>
  <dc:subject/>
  <dc:title>التصور الاسلامي عن الرسل عليهم السلام</dc:title>
</cp:coreProperties>
</file>